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546-3A5E-4089-B4CE-F5F77233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BBD-C1FD-4FB6-9D85-A000EDCB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212-6E7E-4FFB-AE42-3114FE18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62B-5E85-448B-A68A-993A542C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04A7-BEC3-4911-AD43-0669F6C0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D68B-2275-4619-A7F5-D288FAC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8150-23C4-4E56-90C6-0BE2796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15E0-DFA1-4B88-9A11-92C42A0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13C-5F4A-420F-831E-EB41AD5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CC0-A350-432C-B7A2-E7268C7A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3ED-482B-492D-B6BB-C3A8425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705-1D58-4BB9-B5B3-059CE65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7D9B-5A27-4C37-99BC-E6E914B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853-A23F-4954-B489-B6ECF0B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42DA-B5C4-42D1-A530-9D19C0D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CD2-F67D-49DA-BE64-EB5D0E79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A7E1-4A3E-4433-8A4E-086CC17C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E64-652C-4295-9E07-4B9082EE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6C0-F6A9-413F-B916-78FEC10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0DC-36BB-45A5-9946-B2DF6A86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81B-D9D8-471E-B929-556E081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194-0EC3-4F98-8973-09280694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FEC-B2FE-43C0-BB3C-509C8F6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304-5534-4070-9194-C3AC5AA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97B-C331-4910-9C41-6A3054E6A0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C31D-26D4-47AB-B954-EE3DDFB73A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 B – Types of Group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nd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tockholm Syndr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ocumented case in 1973, in Stockholm, Swe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robbers held 4 hostages for 6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ostages resisted rescue and refused to testify against their cap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hostage even became romantically involved with one of the rob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990720"/>
            <a:ext cx="3429000" cy="4530600"/>
            <a:chOff x="5105520" y="990720"/>
            <a:chExt cx="3429000" cy="45306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105520" y="990720"/>
              <a:ext cx="342900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5105520" y="990720"/>
              <a:ext cx="342900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71760" y="5410080"/>
            <a:ext cx="33156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3 bank robbery in Swe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which the captives assist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hen later refused to testify again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ir kidnapp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tockholm Syndrome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s that create the syndro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begins after about 3-4 days in cap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ive becomes committed to trying to keep the captor happy – eventually identify with the ca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or must threaten to kill the ho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ope of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 kindnesses by ca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ly isolated from outsid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“Battered Wife Syndrom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 will go along with abusive situations if they can see no other way, and they see the abuser in a position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eeting Needs through Group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Group Functi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quality of member’s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ini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ower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riginal self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ing soci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cy groups – work on behalf of a cause or princi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-3772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Five and the Person’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eving others’ suff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rofit organizations – tax reb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O’s (MSF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ctor’s without Bor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Free th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eeting Needs through Group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Group Functions continue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ing Social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s that affect a wider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n control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of Canadians – lobby politicians to protect Canada’s social programs, promote economic fairness, and preserve Canadian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ing Environmental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a variety of ways to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peace, Sierra C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I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Anthropologist’s Perspectiv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llectivist Out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in a group put the group welfare above individu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industrial cultures, many Asian cultures, not Nor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itment to a group and level of co-operation with its demands relates to how well and thoroughly the group meets an individual’s ne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group is not meeting our needs we will be less committed or co-ope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Psychologist’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pectiv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form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person adjusts his or her thoughts and behaviour to match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examples of extreme 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Temple – 900 simultaneous suicides by cult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 War Criminals – argued that they are not responsible because they were “following ord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76920" y="3733920"/>
            <a:ext cx="4038480" cy="2701800"/>
            <a:chOff x="4876920" y="3733920"/>
            <a:chExt cx="4038480" cy="2701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76920" y="3733920"/>
              <a:ext cx="4038480" cy="27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4876920" y="3733920"/>
              <a:ext cx="4038480" cy="27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0360" y="152280"/>
            <a:ext cx="2718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Milgram Conformity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teacher” is actually the volunteer subject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arner” and the “experimenter” are 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teacher” must press a button to send an electric shock every time the learner gets a question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% of the subjects continued even after the “death” of the subject from electric sh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ll easily conform to AUTHORITY to harm others and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19920" y="1066680"/>
            <a:ext cx="2590560" cy="1828800"/>
            <a:chOff x="6019920" y="1066680"/>
            <a:chExt cx="2590560" cy="18288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19920" y="1066680"/>
              <a:ext cx="25905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019920" y="1066680"/>
              <a:ext cx="25905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33526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ociologist’s Perspec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too strongly with a group can result in non-members seen as lacking skills or wo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” groups and “out”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Nazis and Jews, Jocks and “Trench Coat Mafia”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47024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141624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15000" y="1066680"/>
            <a:ext cx="2990880" cy="227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7880" y="5791320"/>
            <a:ext cx="4655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ch Coat Mafia – Columbine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080" y="335268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s with J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50:56Z</dcterms:created>
  <dc:creator>The Owner</dc:creator>
  <dc:description/>
  <dc:language>en-US</dc:language>
  <cp:lastModifiedBy>Customer</cp:lastModifiedBy>
  <dcterms:modified xsi:type="dcterms:W3CDTF">2010-12-06T19:20:17Z</dcterms:modified>
  <cp:revision>3</cp:revision>
  <dc:subject/>
  <dc:title>Unit 4 B – Types of Groups</dc:title>
</cp:coreProperties>
</file>